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5119350" cy="10691813"/>
  <p:notesSz cx="3143250" cy="48704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3142800" cy="48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780920" y="-36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79000" y="365040"/>
            <a:ext cx="2584440" cy="182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4625640"/>
            <a:ext cx="13622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780920" y="4625640"/>
            <a:ext cx="13618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游ゴシック"/>
                <a:ea typeface="游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3E5DB7-F5DB-47BE-9270-9D39FCC574CD}" type="slidenum">
              <a:rPr b="0" lang="en-US" sz="1200" spc="-1" strike="noStrike">
                <a:solidFill>
                  <a:srgbClr val="000000"/>
                </a:solidFill>
                <a:latin typeface="游ゴシック"/>
                <a:ea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781280" y="4626000"/>
            <a:ext cx="1361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F83C8C-F345-4C4A-B59B-B9617D7FD57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79360" y="365040"/>
            <a:ext cx="2584440" cy="1827360"/>
          </a:xfrm>
          <a:prstGeom prst="rect">
            <a:avLst/>
          </a:prstGeom>
          <a:ln w="0">
            <a:noFill/>
          </a:ln>
        </p:spPr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313920" y="2313000"/>
            <a:ext cx="2514600" cy="21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2336-CAB9-45A7-8F8C-C1A04DC20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39680" y="569520"/>
            <a:ext cx="1303992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39680" y="2846520"/>
            <a:ext cx="1303992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39680" y="6389640"/>
            <a:ext cx="1303992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025A-A0CE-459D-BA1F-57BDF32B4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39680" y="569520"/>
            <a:ext cx="1303992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39680" y="2846520"/>
            <a:ext cx="636336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721640" y="2846520"/>
            <a:ext cx="636336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39680" y="6389640"/>
            <a:ext cx="636336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721640" y="6389640"/>
            <a:ext cx="636336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9A39-6B3F-49D5-94AA-C7C4EF50A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39680" y="569520"/>
            <a:ext cx="1303992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39680" y="2846520"/>
            <a:ext cx="419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448600" y="2846520"/>
            <a:ext cx="419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857520" y="2846520"/>
            <a:ext cx="419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39680" y="6389640"/>
            <a:ext cx="419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448600" y="6389640"/>
            <a:ext cx="419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857520" y="6389640"/>
            <a:ext cx="419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024E-B81F-43F7-BB6D-F6C14BB68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39680" y="569520"/>
            <a:ext cx="1303992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39680" y="2846520"/>
            <a:ext cx="13039920" cy="67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9EA5-256D-4E8E-B774-C3B5B91A7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39680" y="569520"/>
            <a:ext cx="1303992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39680" y="2846520"/>
            <a:ext cx="1303992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B4CE-6BC8-4877-A92A-56C45E12C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39680" y="569520"/>
            <a:ext cx="1303992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39680" y="2846520"/>
            <a:ext cx="636336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721640" y="2846520"/>
            <a:ext cx="636336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4219-880B-4D26-B773-48596BC05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39680" y="569520"/>
            <a:ext cx="1303992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BEDA-EEBF-44D2-81B3-03732D533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39680" y="569520"/>
            <a:ext cx="13039920" cy="9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9590-B7BC-43BE-8493-1C4F9DC10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39680" y="569520"/>
            <a:ext cx="1303992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39680" y="2846520"/>
            <a:ext cx="636336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721640" y="2846520"/>
            <a:ext cx="636336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39680" y="6389640"/>
            <a:ext cx="636336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0AF5-B820-491B-B695-718D2551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39680" y="569520"/>
            <a:ext cx="1303992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39680" y="2846520"/>
            <a:ext cx="636336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721640" y="2846520"/>
            <a:ext cx="636336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721640" y="6389640"/>
            <a:ext cx="636336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4CF0-1050-4955-B0E5-EE40CBC00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39680" y="569520"/>
            <a:ext cx="1303992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39680" y="2846520"/>
            <a:ext cx="636336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721640" y="2846520"/>
            <a:ext cx="636336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39680" y="6389640"/>
            <a:ext cx="1303992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3A0C-F0E2-4BC4-A5AA-D5A91DE3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39680" y="569520"/>
            <a:ext cx="1303992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39680" y="2846520"/>
            <a:ext cx="1303992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1" marL="10684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2" marL="17812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3" marL="24940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4" marL="32068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5" marL="32068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6" marL="32068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39680" y="9909000"/>
            <a:ext cx="34020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008320" y="9909000"/>
            <a:ext cx="510228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677600" y="9909000"/>
            <a:ext cx="34020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898989"/>
                </a:solidFill>
                <a:latin typeface="Calibri"/>
                <a:ea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26591D-6FEC-468D-9C0E-E8F082E0973D}" type="slidenum">
              <a:rPr b="0" lang="en-US" sz="1800" spc="-1" strike="noStrike">
                <a:solidFill>
                  <a:srgbClr val="898989"/>
                </a:solidFill>
                <a:latin typeface="Calibri"/>
                <a:ea typeface="游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05:25:09Z</dcterms:created>
  <dc:creator>G0321</dc:creator>
  <dc:description/>
  <dc:language>en-US</dc:language>
  <cp:lastModifiedBy>Windows ユーザー</cp:lastModifiedBy>
  <dcterms:modified xsi:type="dcterms:W3CDTF">2020-05-08T06:09:50Z</dcterms:modified>
  <cp:revision>9</cp:revision>
  <dc:subject/>
  <dc:title>スライド 1</dc:title>
</cp:coreProperties>
</file>